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DAB-16DB-4CFA-B9F4-BF94631F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C0E-351D-44F0-BFC6-398D2009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BA9-34F4-44AE-A46A-6891477C5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6509-EBF7-417D-A800-7757A261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A418-13CA-43E3-AE67-B2CAA1D1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2E28-3737-4B69-9A9E-D328A839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BCD5-117C-4086-9326-63E79A9B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3A7B-26DE-404D-A400-5A203A75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0C8A-5E96-4125-867E-73B6B140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0427-982C-4921-9709-CF045D4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312D-0205-4705-9501-BAFDACF6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7E8-0723-4FF1-9C3B-7C489378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EEB9-8F79-4B89-8849-D856311E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65B5-8AA0-42BC-9745-2F8D70C3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FAF3-DD10-42AB-835D-5C484DB0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7378-40B3-45E5-8FA8-8CF4028F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11C8-B261-4385-8AE7-9E49037C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585-9034-4E65-8FA0-4C829695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F0C-46F8-4227-BD37-D9C35E75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E28-894E-4763-8477-521F5037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7D02-D142-4AA9-952E-A04E2B44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103-B245-465D-83FB-B41344B8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D9D-9422-46E7-8282-EDC8F5C4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054-B261-4B60-8519-FD35AEE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FF31-3726-48A6-80C5-D0430C00AB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12C-EC03-49B4-9E0C-BEFACFB35D0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S – Unit 1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uman Evolution - Anthrop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576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mini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is any member of the biological family Hominidae (the "great apes"), including the humans, chimps, bonobos, gorillas and oranguta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2577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mini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72392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bitual Bipedal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Bipedali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to habitually walk on two legs.  Humans only primate with this adap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ad to happen for us to stand up straigh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7" name="" descr="Photo"/>
          <p:cNvPicPr/>
          <p:nvPr/>
        </p:nvPicPr>
        <p:blipFill>
          <a:blip r:embed="rId1"/>
          <a:stretch/>
        </p:blipFill>
        <p:spPr>
          <a:xfrm>
            <a:off x="4343400" y="2819520"/>
            <a:ext cx="449568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pedalism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uctural changes required for us to walk upright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-shaped spi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ble arched foo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lvis – shorter and wi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e gluteus musc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wer head / neck muscles – therefore a bigger br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733920" cy="2897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57800" y="3505320"/>
            <a:ext cx="289548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being biped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1244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e hands for carr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walk longer dista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have a continuous good view of surroun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038480" y="2590920"/>
            <a:ext cx="46483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isadvantage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eing biped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ly dangerous birthing pro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ffspring very dependent and weak because the skull must grow outside of the w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124080" cy="2422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486400" y="1752480"/>
            <a:ext cx="2763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s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rain Siz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26668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mans have the largest brain for our body mass compared to other mamm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57819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2362320"/>
          <a:ext cx="7848720" cy="3227400"/>
        </p:xfrm>
        <a:graphic>
          <a:graphicData uri="http://schemas.openxmlformats.org/drawingml/2006/table">
            <a:tbl>
              <a:tblPr/>
              <a:tblGrid>
                <a:gridCol w="1676520"/>
                <a:gridCol w="3200400"/>
                <a:gridCol w="2971800"/>
              </a:tblGrid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cial structure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ominance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lverbacks and alpha males in a grou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oom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lated to the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ess releas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ir Bonding AND Group Living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umans are the only primates to have both social characteristics simultaneously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2816280"/>
              </a:tblGrid>
              <a:tr h="12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produc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strus cycle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(in heat)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choice of when to m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ho gets to mate when ties into dominance and grooming hierarchi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estrus cycl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oice in when to mat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838080" y="2362320"/>
          <a:ext cx="7693200" cy="375264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28162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other – Infant relationship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 infant dependency</a:t>
                      </a:r>
                      <a:r>
                        <a:rPr b="0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pared to other mammal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ortant in learning survival skills and culture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ngest infant dependency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iod of all primate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olutionary The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arles Darwin 1809-188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shed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Origin of the Speci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(185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lapagos Islands – observed different species of finch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oversial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071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343400" y="35812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minid (human), Primate differenc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2362320"/>
          <a:ext cx="7693200" cy="3733560"/>
        </p:xfrm>
        <a:graphic>
          <a:graphicData uri="http://schemas.openxmlformats.org/drawingml/2006/table">
            <a:tbl>
              <a:tblPr/>
              <a:tblGrid>
                <a:gridCol w="2210040"/>
                <a:gridCol w="2666880"/>
                <a:gridCol w="281628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mate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minids / Humans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4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mmunicatio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acial displays, call, touch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peech centre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in the brain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umanity and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ur Vari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429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ur bodies are essentially 50 000 years old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w culture, not physical evolution enables us to adapt very quickly to a changing environmen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3366"/>
                </a:solidFill>
                <a:latin typeface="Arial"/>
              </a:rPr>
              <a:t>Race -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ultural construct – does not physically ex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43400" y="3352680"/>
            <a:ext cx="44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3434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kin Colour - </a:t>
            </a:r>
            <a:r>
              <a:rPr b="0" i="1" lang="en-GB" sz="3200" spc="-1" strike="noStrike">
                <a:solidFill>
                  <a:srgbClr val="006666"/>
                </a:solidFill>
                <a:latin typeface="Arial"/>
              </a:rPr>
              <a:t>Legitimate Explanations for Human Var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3770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nlight is the best source of vitamin D (necessary for healthy b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ght skin absorbs vitamin D and burns more easily than darker skin          Paler skin is found in areas further from the equator where there is less sunlight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environmental Fit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kin colour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variati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434340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021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kin Colour - </a:t>
            </a:r>
            <a:r>
              <a:rPr b="0" i="1" lang="en-GB" sz="3200" spc="-1" strike="noStrike">
                <a:solidFill>
                  <a:srgbClr val="006666"/>
                </a:solidFill>
                <a:latin typeface="Arial"/>
              </a:rPr>
              <a:t>Legitimate Explanations for Human Vari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arker skin provides better protection from UV rays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arker skin is found in areas closer to the equator where there is more and stronger sunlight (</a:t>
            </a:r>
            <a:r>
              <a:rPr b="0" i="1" lang="en-GB" sz="2000" spc="-1" strike="noStrike">
                <a:solidFill>
                  <a:srgbClr val="003366"/>
                </a:solidFill>
                <a:latin typeface="Arial"/>
              </a:rPr>
              <a:t>environmental Fitnes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kin colour (variation)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1911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Origin of Species - 1859"/>
          <p:cNvPicPr/>
          <p:nvPr/>
        </p:nvPicPr>
        <p:blipFill>
          <a:blip r:embed="rId1"/>
          <a:stretch/>
        </p:blipFill>
        <p:spPr>
          <a:xfrm>
            <a:off x="1219320" y="685800"/>
            <a:ext cx="6975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arwin’s Theory –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Natural Selec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itabilit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Organisms inherit characteristics from their par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Vari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there is a lot of variation within a spe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Environmental Fitnes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Those traits that allow an individual to survive to reproductive age – to pass on to offsp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rwin’s Finc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362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xample of Var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5562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eppered Moth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 UK – </a:t>
            </a:r>
            <a:br>
              <a:rPr sz="3200"/>
            </a:b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example of natural selection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9532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ite and Black moths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Variation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od source for bi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fore Industrial Rev. most moths – white - better camouflaged against white lichen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Enviromental Fitnes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ustrial Rev – coal dust turned environment black, now black moths better camouflaged.  Black moths now surviving to reproduce and pass their colour to next generation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Heritabilit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, most moths are black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 (natural selectio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2911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olution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viden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ysical Anthropolog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ossil, bone, stone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ains (using dating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chniqu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 Microscopic analysis –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len, scratches on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Experiments – flak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one techni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62720" y="2361960"/>
            <a:ext cx="29685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676680" cy="2763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81480" y="3581280"/>
            <a:ext cx="36576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uman Evol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754380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1120" y="457200"/>
            <a:ext cx="4714920" cy="6095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3440" y="1676520"/>
            <a:ext cx="4030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6:30:38Z</dcterms:created>
  <dc:creator>Administrator</dc:creator>
  <dc:description/>
  <dc:language>en-US</dc:language>
  <cp:lastModifiedBy>OCDSB User</cp:lastModifiedBy>
  <dcterms:modified xsi:type="dcterms:W3CDTF">2012-09-14T13:17:04Z</dcterms:modified>
  <cp:revision>14</cp:revision>
  <dc:subject/>
  <dc:title>APS – Unit 1</dc:title>
</cp:coreProperties>
</file>